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48695"/>
        <c:axId val="94928775"/>
      </c:barChart>
      <c:catAx>
        <c:axId val="77448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8775"/>
        <c:crosses val="autoZero"/>
        <c:auto val="1"/>
        <c:lblAlgn val="ctr"/>
        <c:lblOffset val="100"/>
        <c:noMultiLvlLbl val="0"/>
      </c:catAx>
      <c:valAx>
        <c:axId val="94928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48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231-66B6-4E7F-8D9C-21AD62F7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C10-24B5-4802-AF6D-595C57A6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1C7-AA7E-4435-9942-B0BC3965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B20-EFEB-4B80-A2A5-F2DE7D1A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975-732F-466B-9B48-E37AF492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F44-77BE-41AB-A3A2-F596580A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CF0-1AB1-4686-A4D0-DBA77C55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E77-1CAC-4E53-8222-6AE45B84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54A-AACE-49C8-B73B-B78B6348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C92-4E98-4A79-87A9-CD8FE01E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930-2863-4EED-9A0D-682BC67A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8FC-DF94-4D80-8C71-1B640087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6A05E-2A64-4F57-9913-67612C484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