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20079"/>
        <c:axId val="35430772"/>
      </c:barChart>
      <c:catAx>
        <c:axId val="14720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30772"/>
        <c:crosses val="autoZero"/>
        <c:auto val="1"/>
        <c:lblAlgn val="ctr"/>
        <c:lblOffset val="100"/>
        <c:noMultiLvlLbl val="0"/>
      </c:catAx>
      <c:valAx>
        <c:axId val="35430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20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482-34B1-4AC0-9EC2-00F08DA7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028-FB20-4C99-9350-95EF0D60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E2A-3D90-4F3C-99DC-ACF5A220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74E-8425-4325-8323-3B9762E7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00C-0169-4314-B552-9B30144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9CA-8597-4719-8729-13AA5239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17B-0E5D-4683-A5DF-04D9F2DE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974-6B72-400D-919A-3F470D97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887-B44B-4026-9A38-592B5F4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B734-7076-4975-94EA-718F1D8E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650-52D2-47B2-B616-9B42D860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7C1-ED0C-42A9-9BCB-19187CE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0DEE2-B71E-46BF-8B17-63F2B2F7C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