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86688"/>
        <c:axId val="39430142"/>
      </c:barChart>
      <c:catAx>
        <c:axId val="49686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0142"/>
        <c:crosses val="autoZero"/>
        <c:auto val="1"/>
        <c:lblAlgn val="ctr"/>
        <c:lblOffset val="100"/>
        <c:noMultiLvlLbl val="0"/>
      </c:catAx>
      <c:valAx>
        <c:axId val="39430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86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34F-B892-4F2D-BAE6-B7B58DBF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BAA-18FD-49C6-8926-6B269056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51D-88F2-4B9F-BFD7-DFDA4318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03A-0871-45B9-AE89-E2351F96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490-38F1-497A-8DB4-BC0ABC84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51F-4824-471D-9512-D99BB0D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F2A-B79A-44A8-9F5B-D8E69E1D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834-B359-4BA2-B69D-DEA37DA0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943-D2C6-40A9-831D-76C50B6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B52-BD61-41FE-9D21-7B33927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766-38DB-4D89-83EB-F4790142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9F7-8ECE-4711-B452-9E75460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51BAD-B329-442B-B3E7-6A79F29B36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