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1340"/>
        <c:axId val="82746177"/>
      </c:barChart>
      <c:catAx>
        <c:axId val="90321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6177"/>
        <c:crosses val="autoZero"/>
        <c:auto val="1"/>
        <c:lblAlgn val="ctr"/>
        <c:lblOffset val="100"/>
        <c:noMultiLvlLbl val="0"/>
      </c:catAx>
      <c:valAx>
        <c:axId val="82746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1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D12-2870-4E87-90BC-2CB85FD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83B-5C00-4AF7-A0FF-06F0F6B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08D-DAF6-44D6-B28C-76397E5C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D04-1F7D-4461-919A-88031E4E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641-9417-495D-A825-AAF3E4C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2CB-9A9F-4176-AEBD-F129CC5F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B85-3EB6-4D99-A03E-DEE0969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8C6-BB82-472F-B0A5-68FFADA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C61-0B2E-4635-87DA-56AE5538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51C-3E19-4E22-B7FB-3B9BE2E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3E9-A274-4C24-B12E-F149B2A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119-746F-42E4-BCB9-7903B4A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DAC8D-48AE-43FB-8383-680674D6F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